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249-1F0D-4387-957F-4BB6B6FB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A98-C90B-4691-A2EE-ED8D7E2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E54-C00B-4548-9551-E2060B9D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F7E-117B-4E0C-94D1-DFC65737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1D0-BBC2-43BA-86CB-9A0F58A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6AA-CD1C-43EA-BC5A-3390B93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910-0E4E-43E0-A2A3-10B03EF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DBA-E6D9-45A5-A513-983FC1C3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B0B-87E1-45B6-A0D5-7C86E0F9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DAD-7756-483D-A5EF-C9C9732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A9C-5290-450C-9FA9-9EA7D9D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F94-07EC-4E9F-B4F5-D1213E7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D859-8622-49F6-B510-71C2461DD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ge_name" TargetMode="External"/><Relationship Id="rId2" Type="http://schemas.openxmlformats.org/officeDocument/2006/relationships/hyperlink" Target="http://en.wikipedia.org/wiki/Songwriter" TargetMode="External"/><Relationship Id="rId3" Type="http://schemas.openxmlformats.org/officeDocument/2006/relationships/hyperlink" Target="http://en.wikipedia.org/wiki/Record_producer" TargetMode="External"/><Relationship Id="rId4" Type="http://schemas.openxmlformats.org/officeDocument/2006/relationships/hyperlink" Target="http://en.wikipedia.org/wiki/Singer" TargetMode="External"/><Relationship Id="rId5" Type="http://schemas.openxmlformats.org/officeDocument/2006/relationships/hyperlink" Target="http://en.wikipedia.org/wiki/Fashion_designer" TargetMode="External"/><Relationship Id="rId6" Type="http://schemas.openxmlformats.org/officeDocument/2006/relationships/hyperlink" Target="http://en.wikipedia.org/wiki/Artist" TargetMode="External"/><Relationship Id="rId7" Type="http://schemas.openxmlformats.org/officeDocument/2006/relationships/hyperlink" Target="http://en.wikipedia.org/wiki/Tamil_Sri_Lankans" TargetMode="External"/><Relationship Id="rId8" Type="http://schemas.openxmlformats.org/officeDocument/2006/relationships/hyperlink" Target="http://en.wikipedia.org/wiki/File-sharing" TargetMode="External"/><Relationship Id="rId9" Type="http://schemas.openxmlformats.org/officeDocument/2006/relationships/hyperlink" Target="http://en.wikipedia.org/wiki/Galang" TargetMode="External"/><Relationship Id="rId10" Type="http://schemas.openxmlformats.org/officeDocument/2006/relationships/hyperlink" Target="http://en.wikipedia.org/wiki/Sunshowers" TargetMode="External"/><Relationship Id="rId11" Type="http://schemas.openxmlformats.org/officeDocument/2006/relationships/hyperlink" Target="http://en.wikipedia.org/wiki/Internet" TargetMode="External"/><Relationship Id="rId12" Type="http://schemas.openxmlformats.org/officeDocument/2006/relationships/hyperlink" Target="http://en.wikipedia.org/wiki/Mercury_Prize" TargetMode="External"/><Relationship Id="rId13" Type="http://schemas.openxmlformats.org/officeDocument/2006/relationships/hyperlink" Target="http://en.wikipedia.org/wiki/Arular" TargetMode="External"/><Relationship Id="rId14" Type="http://schemas.openxmlformats.org/officeDocument/2006/relationships/hyperlink" Target="http://en.wikipedia.org/wiki/Kala_(album)" TargetMode="External"/><Relationship Id="rId15" Type="http://schemas.openxmlformats.org/officeDocument/2006/relationships/hyperlink" Target="http://en.wikipedia.org/wiki/Grammy_Awards" TargetMode="External"/><Relationship Id="rId16" Type="http://schemas.openxmlformats.org/officeDocument/2006/relationships/hyperlink" Target="http://en.wikipedia.org/wiki/Academy_Award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ancehall" TargetMode="External"/><Relationship Id="rId2" Type="http://schemas.openxmlformats.org/officeDocument/2006/relationships/hyperlink" Target="http://en.wikipedia.org/wiki/Electro_(music)" TargetMode="External"/><Relationship Id="rId3" Type="http://schemas.openxmlformats.org/officeDocument/2006/relationships/hyperlink" Target="http://en.wikipedia.org/wiki/World_musi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ular" TargetMode="External"/><Relationship Id="rId2" Type="http://schemas.openxmlformats.org/officeDocument/2006/relationships/hyperlink" Target="http://en.wikipedia.org/wiki/Personal_identity_(philosophy)" TargetMode="External"/><Relationship Id="rId3" Type="http://schemas.openxmlformats.org/officeDocument/2006/relationships/hyperlink" Target="http://en.wikipedia.org/wiki/Indie_(culture)" TargetMode="External"/><Relationship Id="rId4" Type="http://schemas.openxmlformats.org/officeDocument/2006/relationships/hyperlink" Target="http://en.wikipedia.org/wiki/Popular_culture" TargetMode="External"/><Relationship Id="rId5" Type="http://schemas.openxmlformats.org/officeDocument/2006/relationships/hyperlink" Target="http://en.wikipedia.org/wiki/Revolution" TargetMode="External"/><Relationship Id="rId6" Type="http://schemas.openxmlformats.org/officeDocument/2006/relationships/hyperlink" Target="http://en.wikipedia.org/wiki/War" TargetMode="External"/><Relationship Id="rId7" Type="http://schemas.openxmlformats.org/officeDocument/2006/relationships/hyperlink" Target="http://en.wikipedia.org/wiki/Working_class" TargetMode="External"/><Relationship Id="rId8" Type="http://schemas.openxmlformats.org/officeDocument/2006/relationships/hyperlink" Target="http://en.wikipedia.org/wiki/PLO" TargetMode="External"/><Relationship Id="rId9" Type="http://schemas.openxmlformats.org/officeDocument/2006/relationships/hyperlink" Target="http://en.wikipedia.org/wiki/Slang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ala_(album)" TargetMode="External"/><Relationship Id="rId2" Type="http://schemas.openxmlformats.org/officeDocument/2006/relationships/hyperlink" Target="http://en.wikipedia.org/wiki/Live_instrumentation" TargetMode="External"/><Relationship Id="rId3" Type="http://schemas.openxmlformats.org/officeDocument/2006/relationships/hyperlink" Target="http://en.wikipedia.org/wiki/Dance_music" TargetMode="External"/><Relationship Id="rId4" Type="http://schemas.openxmlformats.org/officeDocument/2006/relationships/hyperlink" Target="http://en.wikipedia.org/wiki/Folk_music" TargetMode="External"/><Relationship Id="rId5" Type="http://schemas.openxmlformats.org/officeDocument/2006/relationships/hyperlink" Target="http://en.wikipedia.org/wiki/Soca_music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00" y="3860280"/>
            <a:ext cx="48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ritish Asian identity through music</a:t>
            </a: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se study -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A is one of he most culturally diverse, and critically acclaimed UK artists to emerge in the last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w Task: Look at the images of her on the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her ‘Asianess’ obvious through her mise-en-sce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genre of music would you place her in from the ima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941720"/>
            <a:ext cx="496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s go to her web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iau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264800">
            <a:off x="5866920" y="3716280"/>
            <a:ext cx="204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: 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angi "Maya" Arulpragas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rn 18 July 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known by he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g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I.A.(missing in act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ngwri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cord produ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ashion desig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t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ri Lankan Tam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ig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complished visual artist by 2002, M.I.A. came to prominence in early 2004 throug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ile-sha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er singles "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al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and "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unshow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o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released he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ercury Pr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minated debut albu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r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2005. Her second album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Ka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s released in 2007 and gained her mainstream chart success. She has been nominated for tw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Grammy A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cademy Aw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compositions have been noted to encompass various genres, often with political lyricism and artwork. M.I.A. has described her music style as being "othe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A- cultural hybridity and musical 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283760"/>
            <a:ext cx="835164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A’s music is said to be a mix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e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ec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ip hop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praised for her musical ‘fusion’ which has become popular with critics and some sections of the alternative-indie aud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 her musical experimentation and refusal to conform to any cultural stereotypes makes her an artist who doesn’t have a huge mainstream foll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also not hugely popular amongst the Asian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: Watch the video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Galang’ 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Sunshowers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her website and make notes on the sheet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singingfool.com/Title.aspx?publishedid=14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415280" y="5373720"/>
            <a:ext cx="1728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Arula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A’s debut album ‘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ul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released worldwide in March 2005 to universal critical accla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ng and titling the alb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cknowledgment of her and her father's past, much of its focus lay in experi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ula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bservational, reflecting on her experiences of cultur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dentity,  poli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die cul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pular cul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v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orking 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, exemplified by song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mazon“ and "Fire Fire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songs on the album are politically motivated showing her support for revolutionary groups such as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Tamil independenc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rically her songs often combine multi-lingu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l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opular culture imagery and social commen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65964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Kala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6 M.I.A. wrote and recorded her second studio album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d after her m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d through the lyric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20 Dollar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nnotate the sheet. What is the song about? Are the lyrics meaningful or non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la’ uses more diver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ve instru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layering traditional Indi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yles wit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echno/rave and urumee melam (traditional Tamil drums) in song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oyz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XR2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bum also saw her re-embrace the Bollywood film music from her childhood, as in the so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‘Jimm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isten to the song and watch the video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Jimmy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make notes on the worksh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372360" y="189000"/>
            <a:ext cx="14526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80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A- cultural hybrid,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propriator, innovato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 to conclude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explicit is her Asianess? How does he view her own ident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MIA a cultural hybrid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she appropriate another culture in the same manner as Jay S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British is she? How influenced by America is s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he an example of deracialisation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this brief interview with her on US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ilymotion.com/video/x4gafv_mia-interview-cbc-the-hour_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w have British Asian artists attempted to forge their own identity through popular music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ider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lex issues surrounding perceptions of Asianess within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sian market, the BBC and niche gen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uccess of Jay Sean and the notion of cultural appropriation/deracia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A and cultural hybridity/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55:32Z</dcterms:created>
  <dc:creator>#</dc:creator>
  <dc:description/>
  <dc:language>en-US</dc:language>
  <cp:lastModifiedBy>nahomi</cp:lastModifiedBy>
  <dcterms:modified xsi:type="dcterms:W3CDTF">2009-11-12T15:27:23Z</dcterms:modified>
  <cp:revision>8</cp:revision>
  <dc:subject/>
  <dc:title>Slide 1</dc:title>
</cp:coreProperties>
</file>